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AC0-7745-4065-A495-DA78F951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5E5-C4DD-4168-A4A1-381E8AE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02E-1006-420B-A5A8-297083EE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2BE-4A35-423E-9319-4CEA2ED7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034-65E1-4FB8-A2B0-5B1A3BF2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A938-BB06-4D11-ABF9-317B1EC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A2A9-796F-44E5-812D-9E104B0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9CEC-414E-467D-B67D-54871F67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3748-B499-462A-8978-68CAFD8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E96E-B654-47E4-87DF-FFC3EC1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DC23-9A42-48DC-81DD-31AB69A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54B-0F3E-4407-8751-E883787B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092-0F12-4C1C-8938-7A3482B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6F7F-CE63-4D6E-B38B-6E2D56CA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CDBF-266E-43C9-9B6F-02F56ED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EEBD-A903-42D1-BF65-3D544200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B233-91E9-4E6A-8DEE-1A42770E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A6C-4417-424B-8CC7-507397A5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643-141A-47FD-9669-A8E75230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3EE-BA4E-4AF0-859D-04AC4C40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1D4-4268-4637-969D-A426AB7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E77-37E0-4C4B-A269-989D888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652-1DC2-4830-97DF-BA9409E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5A1-88FE-401C-9B55-BC2F80C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2F8-D0AB-4F0B-AA6B-DD96743F8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96AC-D7ED-4965-9205-AF3680EA61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upload.wikimedia.org/wikipedia/commons/e/e1/Lusitania_warning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US INVOLVEMENT IN WWI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7" descr="brprop2"/>
          <p:cNvPicPr/>
          <p:nvPr/>
        </p:nvPicPr>
        <p:blipFill>
          <a:blip r:embed="rId1"/>
          <a:stretch/>
        </p:blipFill>
        <p:spPr>
          <a:xfrm>
            <a:off x="2286000" y="1219320"/>
            <a:ext cx="44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brprop3"/>
          <p:cNvPicPr/>
          <p:nvPr/>
        </p:nvPicPr>
        <p:blipFill>
          <a:blip r:embed="rId1"/>
          <a:stretch/>
        </p:blipFill>
        <p:spPr>
          <a:xfrm>
            <a:off x="2286000" y="1371600"/>
            <a:ext cx="533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5" descr="brprop4"/>
          <p:cNvPicPr/>
          <p:nvPr/>
        </p:nvPicPr>
        <p:blipFill>
          <a:blip r:embed="rId1"/>
          <a:stretch/>
        </p:blipFill>
        <p:spPr>
          <a:xfrm>
            <a:off x="1600200" y="14479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5" descr="brprop5"/>
          <p:cNvPicPr/>
          <p:nvPr/>
        </p:nvPicPr>
        <p:blipFill>
          <a:blip r:embed="rId1"/>
          <a:stretch/>
        </p:blipFill>
        <p:spPr>
          <a:xfrm>
            <a:off x="1676520" y="1447920"/>
            <a:ext cx="37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immerman Tele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rch 1917-British authorities gave to the US a telegram that was supposedly sent to Mexico from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had been decoded by the Brit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asked Mexico to declare war on the US and they would be supported by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rch 1917-Russia left WWI due to a Revolution in their own count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now would concentrate totally on the Western Fro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s from Great Britain and France to join the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claration of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ril 2, 1917-Wilson asks Congress to declare war on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World must be made safe for Democracy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ril 6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Congress votes and declares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bilization - Centralized Regul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ar Industry Board – Bernard Baru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trolled raw material, production, prices, factories, RR’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at’l War Labor Bd – Support by Gomper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strikes – higher wages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ood Administ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ncouraged people to eat less meat and brea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arm Production increased expor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rationing cards yet (WWII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Invented Daylight Savings to conserve fu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7" descr="less meat"/>
          <p:cNvPicPr/>
          <p:nvPr/>
        </p:nvPicPr>
        <p:blipFill>
          <a:blip r:embed="rId1"/>
          <a:stretch/>
        </p:blipFill>
        <p:spPr>
          <a:xfrm>
            <a:off x="4724280" y="12193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b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inced Americans to put savings into </a:t>
            </a:r>
            <a:r>
              <a:rPr b="0" lang="ja-JP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berty Bonds</a:t>
            </a:r>
            <a:r>
              <a:rPr b="0" lang="ja-JP" sz="28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d income tax, business tax, and excise ta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6" descr="prop2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EL Committ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oluntary censorship of the ne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de heroes out of soldiers and villains out of the Germa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tacked and gave new names to anything that sounded Germ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6" descr="prop1"/>
          <p:cNvPicPr/>
          <p:nvPr/>
        </p:nvPicPr>
        <p:blipFill>
          <a:blip r:embed="rId1"/>
          <a:stretch/>
        </p:blipFill>
        <p:spPr>
          <a:xfrm>
            <a:off x="4724280" y="1752480"/>
            <a:ext cx="3657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auses of American Involveme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Unrestricted Submarine Warf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 British propagan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 Zimmerman Telegrap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.  Russian Revolu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5" descr="prop4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5" descr="prop3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merican Protective League – open mail, neighborhood wat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00% American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spionage Act of 1917-imprisoned for 20 year if caught inciting a riot or obstructing the draf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dition Act of 1918-Prohibited from making disloyal remark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chneck v. US (1919)-Restriction of civil liberties is ok if it demonstrates a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ear and present danger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ublic safety (Abrams v. U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3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nori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men-Entered the workforce in mass, took the jobs of soldiers fighting in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xicans-immigrating in mass to get agricultural work in the southw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rican-Americans-400,000 volunteered for the armed services, served in non-combat roles, and in segregated units; also in Northern industries --- Great Migr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5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0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med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Thousands volunteered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Selective Service Act (1917)-2.8 million drafted by lotter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American Expeditionary Force (AEF) led by General John J. </a:t>
            </a:r>
            <a:r>
              <a:rPr b="1" lang="ja-JP" sz="2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Black Jack</a:t>
            </a:r>
            <a:r>
              <a:rPr b="1" lang="ja-JP" sz="26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1" lang="en-US" sz="2600" spc="-1" strike="noStrike">
                <a:solidFill>
                  <a:srgbClr val="eaeaea"/>
                </a:solidFill>
                <a:latin typeface="Verdana"/>
              </a:rPr>
              <a:t> Pershing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7" descr="pershing"/>
          <p:cNvPicPr/>
          <p:nvPr/>
        </p:nvPicPr>
        <p:blipFill>
          <a:blip r:embed="rId1"/>
          <a:stretch/>
        </p:blipFill>
        <p:spPr>
          <a:xfrm>
            <a:off x="4419720" y="1295280"/>
            <a:ext cx="4190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ual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9,000-Combat Deat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4,000-Died from Disea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ldwide Flu Epidem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mis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vember 11, 1918 at 11a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the 1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day of the 1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month at the 1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our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morialized-Veterans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surrendered their arms, Navy, and occupied territo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son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led the 14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 1-5-Remove the Causes of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eedom of Se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hibit secret trea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duce A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duce colon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f-Determination-each person allowed to move to country of their national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8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3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3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8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3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son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 6-13-Boundary Chang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 14-League of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st valued-heart of peace pl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ace association-solve problems by diplomatic means instead of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5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0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5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anuary 1919-Par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Fou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odrow Wilson-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vid Lloyd George-Great Brit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orges Clemenceau-F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ttorio Orlando-Ita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D4F-EF0E-40EF-B1EA-3BCB62897E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ich side should the US pick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1981080"/>
            <a:ext cx="3352680" cy="1191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11 million German-Americans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Irish-Americans hated Great Britai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952880" y="1981080"/>
            <a:ext cx="3353040" cy="14655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lose cultural ties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ared transatlantic cables (so censored storie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Big business loaned much $ to alli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447920" y="1295280"/>
            <a:ext cx="266688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entral Power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952880" y="1295280"/>
            <a:ext cx="2667240" cy="368280"/>
          </a:xfrm>
          <a:prstGeom prst="rect">
            <a:avLst/>
          </a:prstGeom>
          <a:solidFill>
            <a:srgbClr val="aa8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Allie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Object 8"/>
          <p:cNvGraphicFramePr/>
          <p:nvPr/>
        </p:nvGraphicFramePr>
        <p:xfrm>
          <a:off x="2057400" y="5670720"/>
          <a:ext cx="5622840" cy="11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670720"/>
                    <a:ext cx="562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9"/>
          <p:cNvSpPr/>
          <p:nvPr/>
        </p:nvSpPr>
        <p:spPr>
          <a:xfrm>
            <a:off x="2286000" y="5029200"/>
            <a:ext cx="48769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US Exports to both side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6" name="Picture 5" descr="wilson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loyd Geor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Picture 5" descr="PRgeorge2"/>
          <p:cNvPicPr/>
          <p:nvPr/>
        </p:nvPicPr>
        <p:blipFill>
          <a:blip r:embed="rId1"/>
          <a:stretch/>
        </p:blipFill>
        <p:spPr>
          <a:xfrm>
            <a:off x="1523880" y="144792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emencea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Picture 5" descr="FWWclemen"/>
          <p:cNvPicPr/>
          <p:nvPr/>
        </p:nvPicPr>
        <p:blipFill>
          <a:blip r:embed="rId1"/>
          <a:stretch/>
        </p:blipFill>
        <p:spPr>
          <a:xfrm>
            <a:off x="2286000" y="13716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rlan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Picture 5" descr="FWWorlando"/>
          <p:cNvPicPr/>
          <p:nvPr/>
        </p:nvPicPr>
        <p:blipFill>
          <a:blip r:embed="rId1"/>
          <a:stretch/>
        </p:blipFill>
        <p:spPr>
          <a:xfrm>
            <a:off x="2514600" y="121932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son wanted this to be the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r to end all wars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thers wanted rev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ths of argu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son compromised on all of his 14 points except 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9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4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9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reaty of Versaill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ovis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Germany was disarmed, stripped of colonies, forced to admit guilt, occupation of Rhineland, and had to pay reparations (war debt) to England and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 Many boundary chang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 Established a League of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6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undary Chan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Picture 7" descr="map1914"/>
          <p:cNvPicPr/>
          <p:nvPr/>
        </p:nvPicPr>
        <p:blipFill>
          <a:blip r:embed="rId1"/>
          <a:stretch/>
        </p:blipFill>
        <p:spPr>
          <a:xfrm>
            <a:off x="457200" y="129528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ap1919"/>
          <p:cNvPicPr/>
          <p:nvPr/>
        </p:nvPicPr>
        <p:blipFill>
          <a:blip r:embed="rId2"/>
          <a:stretch/>
        </p:blipFill>
        <p:spPr>
          <a:xfrm>
            <a:off x="4667400" y="129528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akness of Trea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entral Powers not invi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ussia not invited-took land aw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blam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d to three wa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WI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ld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etnam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8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3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at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son returns with trea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s to get 2/3 vote in Sena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ion of 1918-Majority of Republicans in both hous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nate-raised objections to treaty especially League of Nations-against the Monroe Doctri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at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ponents divided into two 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rreconcilables-would not accept the trea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ervationists-Would accept the treaty if reservations placed on League of N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nry Cabot Lodge leader of reservationis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2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created new submarine called the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-Boat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tish blockaded North Sea, so Germany gave a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k on sight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rder to any ship approaching Brit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7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1915-British passenger liner the 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usitania</a:t>
            </a:r>
            <a:r>
              <a:rPr b="0" lang="ja-JP" sz="32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unk off the coast of Irel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illed 128 Americ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at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lson against any reserv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ies to rally public support by a speaking tour in the we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pt. 25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1919-collapsed while speaking, returned to Washington and suffered a massive stro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ver recov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believe his wife was running the coun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d to the 25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mendment-Presidential handica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4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9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4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9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 Rejection of Trea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nate voted twice on trea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jected both tim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921-US signed separate peace treaty with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ver ratified the Treaty of Versailles or joined the League of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6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1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usita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8" descr="lus1"/>
          <p:cNvPicPr/>
          <p:nvPr/>
        </p:nvPicPr>
        <p:blipFill>
          <a:blip r:embed="rId1"/>
          <a:stretch/>
        </p:blipFill>
        <p:spPr>
          <a:xfrm>
            <a:off x="990720" y="1828800"/>
            <a:ext cx="3581280" cy="396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ile:Lusitania warn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214200"/>
            <a:ext cx="23619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g. 191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The Arabic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is sunk by the German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 Americans are kille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arabic"/>
          <p:cNvPicPr/>
          <p:nvPr/>
        </p:nvPicPr>
        <p:blipFill>
          <a:blip r:embed="rId1"/>
          <a:stretch/>
        </p:blipFill>
        <p:spPr>
          <a:xfrm>
            <a:off x="4114800" y="1752480"/>
            <a:ext cx="4724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arch 191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The Sussex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, an unarmed passenger ship is su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merica threatens to cut off diplomatic rel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ussex pledge- no passenger or merchant ships would be sunk without war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6" descr="sussex"/>
          <p:cNvPicPr/>
          <p:nvPr/>
        </p:nvPicPr>
        <p:blipFill>
          <a:blip r:embed="rId1"/>
          <a:stretch/>
        </p:blipFill>
        <p:spPr>
          <a:xfrm>
            <a:off x="4572000" y="13716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ritish sent news of the war to US newspapers every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ull of Propagan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d the American public to be sympathetic toward the Brit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itish 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8" descr="brprop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9:03:43Z</dcterms:created>
  <dc:creator>CCSD</dc:creator>
  <dc:description/>
  <dc:language>en-US</dc:language>
  <cp:lastModifiedBy>temp</cp:lastModifiedBy>
  <dcterms:modified xsi:type="dcterms:W3CDTF">2014-02-10T13:53:25Z</dcterms:modified>
  <cp:revision>14</cp:revision>
  <dc:subject/>
  <dc:title>US INVOLVEMENT IN WWI</dc:title>
</cp:coreProperties>
</file>